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4F8-0A90-4F0B-B199-090FA888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598-927E-42C9-91C3-7513EE8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C01-A4AC-4E10-8A3D-77BF4F4B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F71-6A96-4AD1-9912-65E2ACB8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328-3550-46A1-8BC3-7618082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229-ACF8-4535-8D58-4A2B32D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499-2F04-4640-AC4F-227A666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4BD-E69A-4F41-823B-23679B32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CF7-13BC-4336-8C3F-184D280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3CE-41E1-4A9E-9B4C-364B292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E2A-DEA4-456B-BEBB-C81C04A6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C2B-2D3D-45CD-981F-89F8126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D969-3429-4DF2-9FD1-7646B5ED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tenet.edu/teks/math/clarifying/" TargetMode="External"/><Relationship Id="rId2" Type="http://schemas.openxmlformats.org/officeDocument/2006/relationships/hyperlink" Target="http://www.mathtekstoolkit.org/" TargetMode="External"/><Relationship Id="rId3" Type="http://schemas.openxmlformats.org/officeDocument/2006/relationships/hyperlink" Target="http://www.mathtekstoolkit.org/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1 – 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can be used with problems containing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5x – 3) + (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x + 3) – 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model substitution.  Represent original expression with tiles.  Then replace each rectangle with the appropriate tile value.  Combine like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-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9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362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+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664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97180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1055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4864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9332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33145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954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895480"/>
            <a:ext cx="396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1)(x 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72360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25146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5146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514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514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5146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0481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3390480" y="39240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77208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4152960" y="39243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533480" y="39240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5181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181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51814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251460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97180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2x       let x = -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2x       let 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2362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+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2)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each of the following with algebra tiles, draw a pictorial diagram of the process, then write the symbolic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29718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3352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7339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3733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733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954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4382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x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14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2781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31618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3543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3924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24382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4320" y="1601280"/>
            <a:ext cx="7887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89548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23623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2664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2933280" y="377172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31452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40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502920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4100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410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3623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410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3623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8195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18972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285732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323820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3619080" y="384804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438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1055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2438280"/>
            <a:ext cx="0" cy="358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895480"/>
            <a:ext cx="4114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–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 can be used to divide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iles and frame to represent problem.  Dividend should form array inside frame.  Divisor will form one of the dimensions (one side) of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use zero pairs in the divid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7x +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5x –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– x –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–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x –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+ 7x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9718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56386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6640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35053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2933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314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695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076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4457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4838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4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97180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3429000"/>
            <a:ext cx="518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 are unlike the other “numbers” students learn how to add, subtract, multiply, and divide.  They are not “counting” numbers.  Giving polynomials a concrete reference (tiles) makes them re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. Reid, Acadi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tiles can be made using the Ellison (die-cut)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reproducible can be found by doing a search for algebra t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KS that emphasize using algebra ti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7:  7.1(C), 7.2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I:  c.3(B), c.4(B), d.2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 II:  c.2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523880"/>
            <a:ext cx="213336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15238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8098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8098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4267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4267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na Center has several references to using algebra tiles in their Clarifying Activities.  That site can be reached us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net.edu/teks/math/clarifying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way to get to the Clarifying Activities is by using the Dana Center’s Math toolkit.  That site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thtekstoolkit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5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s do not always use x and y.  Use other variables in the same format.  Model these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pq +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ot present previous material and this information on the sam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blue square represen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large red square (flip-side) be –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he green rectangle represent x and the red rectangle (flip-side) represent –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yellow square represent 1 and the small red square (flip-side) represent –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each of the given expressions with algebra t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orial diagram of th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ymbolic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5720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981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124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581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495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gebra tiles to simplify each of the given expressions.  Combine like terms.  Look for zero pairs.  Draw a diagram to represent th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symbolic expression that represents each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4 +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 + 1 +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4 +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 + 1 +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24382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40384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038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4038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4495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0384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4956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9528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05:40Z</dcterms:created>
  <dc:creator>Theodora Wieland</dc:creator>
  <dc:description/>
  <dc:language>en-US</dc:language>
  <cp:lastModifiedBy>Chatham County</cp:lastModifiedBy>
  <dcterms:modified xsi:type="dcterms:W3CDTF">2010-01-22T19:01:25Z</dcterms:modified>
  <cp:revision>3</cp:revision>
  <dc:subject/>
  <dc:title>Working with Polynomials</dc:title>
</cp:coreProperties>
</file>